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2F79-E1E5-483F-B366-1B16AB94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E7BF-B67F-4BEC-A215-E105C78A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400C-71C5-426A-84DE-BD060845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DA4-7B67-4E2D-9A89-4F655BA5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5A8-D468-45F8-8DEF-F805BFE8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DFD-D885-4220-8AE4-F4D5B62F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D463-8FE9-480C-9744-BA3C28D5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9A9E-F288-4CE8-BD90-6DE42056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AF13-7310-48E6-8122-C9882F5A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51A-DC47-4E59-B52B-25E3C345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9F0D-4DF9-4EE5-AF2B-6C9FA55F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8EDF-D18F-4AA7-8066-5EEE3A0E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6BD1-047F-4586-824D-4185F739CA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61080" y="1916280"/>
            <a:ext cx="6681960" cy="459720"/>
          </a:xfrm>
          <a:prstGeom prst="rect">
            <a:avLst/>
          </a:prstGeom>
          <a:solidFill>
            <a:srgbClr val="eef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parison of CPTA and Hamamatsu SiP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81080" y="306864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.Dan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2360" y="333360"/>
            <a:ext cx="30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pen meeting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 KEKB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/03/2009  K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6200" y="260280"/>
            <a:ext cx="8417880" cy="368280"/>
          </a:xfrm>
          <a:prstGeom prst="rect">
            <a:avLst/>
          </a:prstGeom>
          <a:solidFill>
            <a:srgbClr val="eef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e consider two types of SiPMs  as photodetectors for the scintillator KL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0" y="765000"/>
            <a:ext cx="47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TA MRS A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96 40um pixels, 1.28 mm inscribed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240" y="4869000"/>
            <a:ext cx="35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mamatsu MP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67 50um pixels, 1.3x1.3 mm^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0440" y="3633840"/>
            <a:ext cx="4273560" cy="3224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48360" y="836640"/>
            <a:ext cx="2950920" cy="2401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09400" y="3236760"/>
            <a:ext cx="32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556 pixel version of CPTA Si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3745080" cy="2495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1476360" y="2492280"/>
            <a:ext cx="4032360" cy="1224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27000" y="9360"/>
            <a:ext cx="7020000" cy="7020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53440" y="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MGPD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624720" cy="4743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889640" y="208080"/>
            <a:ext cx="57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DE spectral dependence at maximum bias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Yu.Musienk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41320" y="1066680"/>
            <a:ext cx="56595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56000" y="765000"/>
            <a:ext cx="3672000" cy="328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279960" cy="3244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50920" y="3921120"/>
            <a:ext cx="3363840" cy="2936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427640" y="3992400"/>
            <a:ext cx="360036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977080" cy="4971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7560" y="260280"/>
            <a:ext cx="8800560" cy="1008720"/>
          </a:xfrm>
          <a:prstGeom prst="rect">
            <a:avLst/>
          </a:prstGeom>
          <a:solidFill>
            <a:srgbClr val="eef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rradiation leads to similar dark current increase in MPPC and MRSA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dividual p.e. peak are smeared after ~10^10 p/cm^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owever MPPC show fast annealing after irradiation with neu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360" y="984240"/>
            <a:ext cx="8450280" cy="5313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00400" y="0"/>
            <a:ext cx="6002280" cy="703800"/>
          </a:xfrm>
          <a:prstGeom prst="rect">
            <a:avLst/>
          </a:prstGeom>
          <a:solidFill>
            <a:srgbClr val="eef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nealing of MRSAPD is slower than of MPPC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re studie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636360" y="189000"/>
            <a:ext cx="1338840" cy="398880"/>
          </a:xfrm>
          <a:prstGeom prst="rect">
            <a:avLst/>
          </a:prstGeom>
          <a:solidFill>
            <a:srgbClr val="eef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692280"/>
            <a:ext cx="8696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SAPD and MPPC are practically identical in size and in number of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RSAPD has slightly higher P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RSAPD has somewhat smaller X-talk and after-pul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PPC has shorter pulses and no signal 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PPC has 4 times smaller dark counting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PPC has better uniformity of parameters but PDE varies a lot for fixed 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RSAPD has ~8 times smaller sensitivity to temperature var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RSAPD has ~3 times smaller sensitivity to voltage var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RSAPD is slightly cheaper (subject to negoti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PPC will have high statistics data on long term stability soon (from T2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iPMs from MEPhI demonstrated excellent long term stability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C calorimeter prototype- only 5 dead photo-detectors out of 8000 in 3 years)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RSAPD and MPPC show similar increase of dark current after ir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     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but MPPC has faster annealing (to be check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0480" y="5950080"/>
            <a:ext cx="7837200" cy="703800"/>
          </a:xfrm>
          <a:prstGeom prst="rect">
            <a:avLst/>
          </a:prstGeom>
          <a:solidFill>
            <a:srgbClr val="eef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oth photo-detectors are adequate for the SuperKEKB K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owever there is very little safety margin in radiation hard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2:26:08Z</dcterms:created>
  <dc:creator>Danilov</dc:creator>
  <dc:description/>
  <dc:language>en-US</dc:language>
  <cp:lastModifiedBy>Danilov</cp:lastModifiedBy>
  <dcterms:modified xsi:type="dcterms:W3CDTF">2009-03-18T12:18:32Z</dcterms:modified>
  <cp:revision>7</cp:revision>
  <dc:subject/>
  <dc:title>Slide 1</dc:title>
</cp:coreProperties>
</file>