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LGC Serif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LGC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LGC Serif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LGC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LGC Serif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LGC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C2ED9-AFFF-44DE-AF41-D1C20B2F6DA1}" type="slidenum">
              <a:rPr b="0" lang="en-GB" sz="1200" spc="-1" strike="noStrike">
                <a:solidFill>
                  <a:srgbClr val="000000"/>
                </a:solidFill>
                <a:latin typeface="DejaVu LGC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3B13-079E-449C-A253-11A42D88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5176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EFA4-E22B-4AFB-8D3C-9703BF6B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5176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5176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718A-D2ED-48BA-A446-6CDA81F4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5520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5520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5176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5176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5176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9D34-6174-4238-8242-8FF34AA2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65D9-97FC-41F9-BD2F-B9D7D14D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65520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4727-224E-4CEB-95C8-580E9955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38D2-608A-4B1A-88C5-07DE1E9A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3C4-BDA4-472F-B542-B26ECA62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B16E-7078-4ED3-B499-A147FB7D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11280" y="-360"/>
            <a:ext cx="8532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293F-AC84-4D74-86DC-488972FA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55176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AC80-2AC3-4290-85A6-FC09FB65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5520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21C9-1774-476B-968D-EC1860D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5760" y="355176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B364-1F40-4555-A982-CF3C233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55176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43BB-00B6-49B6-8779-B1D407E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0" y="355176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9037-F42E-487C-8AEA-7A8A76C5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55176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5760" y="355176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EE6C-FB05-46EE-B18E-2EA2E66E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91680" y="65520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83360" y="65520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0" y="355176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091680" y="355176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83360" y="355176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9EFD-D02D-4903-9092-3DFE447C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771B-49CD-4CBB-B077-8D31B5CC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637C-5B69-4E2D-A885-A337E950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B2C5-C400-4644-B397-D6B8D2D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-360"/>
            <a:ext cx="8532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099C-2771-40F8-812C-EF0C284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5176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276D-EABC-4B33-B774-558FAB8B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5176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F22D-5286-4A02-AFCF-C1EE19B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-9360"/>
            <a:ext cx="853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5520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5176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4FA6-DE70-401D-A176-FA5FE3DF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65520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411280" y="6400800"/>
            <a:ext cx="421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8A95D1-F159-4554-85D7-6E7E0AA5174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6120" y="623880"/>
            <a:ext cx="7427880" cy="2533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2867040" cy="3157560"/>
            <a:chOff x="0" y="0"/>
            <a:chExt cx="2867040" cy="3157560"/>
          </a:xfrm>
        </p:grpSpPr>
        <p:sp>
          <p:nvSpPr>
            <p:cNvPr id="44" name=""/>
            <p:cNvSpPr/>
            <p:nvPr/>
          </p:nvSpPr>
          <p:spPr>
            <a:xfrm>
              <a:off x="573120" y="2516400"/>
              <a:ext cx="576360" cy="641160"/>
            </a:xfrm>
            <a:prstGeom prst="rect">
              <a:avLst/>
            </a:prstGeom>
            <a:solidFill>
              <a:srgbClr val="99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16120" y="623880"/>
              <a:ext cx="574560" cy="642960"/>
            </a:xfrm>
            <a:prstGeom prst="rect">
              <a:avLst/>
            </a:prstGeom>
            <a:solidFill>
              <a:srgbClr val="cccc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1320" y="0"/>
              <a:ext cx="585720" cy="635040"/>
            </a:xfrm>
            <a:prstGeom prst="rect">
              <a:avLst/>
            </a:prstGeom>
            <a:solidFill>
              <a:srgbClr val="cccc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41560" y="2516400"/>
              <a:ext cx="583920" cy="641160"/>
            </a:xfrm>
            <a:prstGeom prst="rect">
              <a:avLst/>
            </a:prstGeom>
            <a:solidFill>
              <a:srgbClr val="0000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1320" y="623880"/>
              <a:ext cx="585720" cy="642960"/>
            </a:xfrm>
            <a:prstGeom prst="rect">
              <a:avLst/>
            </a:prstGeom>
            <a:solidFill>
              <a:srgbClr val="99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1560" y="1257480"/>
              <a:ext cx="583920" cy="633240"/>
            </a:xfrm>
            <a:prstGeom prst="rect">
              <a:avLst/>
            </a:prstGeom>
            <a:solidFill>
              <a:srgbClr val="cccc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257480"/>
              <a:ext cx="582480" cy="633240"/>
            </a:xfrm>
            <a:prstGeom prst="rect">
              <a:avLst/>
            </a:prstGeom>
            <a:solidFill>
              <a:srgbClr val="0000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16120" y="1257480"/>
              <a:ext cx="574560" cy="633240"/>
            </a:xfrm>
            <a:prstGeom prst="rect">
              <a:avLst/>
            </a:prstGeom>
            <a:solidFill>
              <a:srgbClr val="99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3120" y="1881360"/>
              <a:ext cx="576360" cy="644400"/>
            </a:xfrm>
            <a:prstGeom prst="rect">
              <a:avLst/>
            </a:prstGeom>
            <a:solidFill>
              <a:srgbClr val="cccc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41560" y="1881360"/>
              <a:ext cx="583920" cy="644400"/>
            </a:xfrm>
            <a:prstGeom prst="rect">
              <a:avLst/>
            </a:prstGeom>
            <a:solidFill>
              <a:srgbClr val="99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34FFC7-4560-4838-882D-31D415B8F03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2971800" y="7621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7621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Arial"/>
              </a:rPr>
              <a:t>Status of scintillator KLM  study</a:t>
            </a:r>
            <a:endParaRPr b="1" lang="en-US" sz="3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3164040"/>
            <a:ext cx="55245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P. Pakhlov (ITEP)</a:t>
            </a:r>
            <a:endParaRPr b="1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3080" y="1406520"/>
            <a:ext cx="6100920" cy="5451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cintillator KLM end cap dete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94360" y="1100160"/>
            <a:ext cx="1346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8524800" y="1400040"/>
            <a:ext cx="171360" cy="39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4600" y="4137120"/>
            <a:ext cx="37846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ey issues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reliability, radiation har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647640"/>
            <a:ext cx="5854680" cy="15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90680"/>
            <a:ext cx="9144000" cy="36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intillator detector with WLS fiber readout is a well established technique for particle detection: stable; fast; radiation hard; c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rawbac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it is more sensititive to neutrons due to hydro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sts in the KEKB tunnel demonstrated that neutron bg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t scintilator is 5-7 times larger than at RPC. 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-y operation and good time re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coincidence gate can be as small as 10ns) allow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uppress bg even higher than RP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hotosensor (one per strip) =                                                                                         Si photo diode in Geiger mode (</a:t>
            </a:r>
            <a:r>
              <a:rPr b="1" i="1" lang="en-US" sz="2000" spc="-1" strike="noStrike">
                <a:solidFill>
                  <a:srgbClr val="660000"/>
                </a:solidFill>
                <a:latin typeface="Times New Roman"/>
                <a:ea typeface="Arial"/>
              </a:rPr>
              <a:t>SiP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ast, efficienct to green light, high ga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ompact, operable in B-field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elatively che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5121360"/>
            <a:ext cx="43020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iPM radiation hardness sufficient for sBel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3040" y="507960"/>
            <a:ext cx="8724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tron irradiation results in defects in the sensitive region. Defects are sources for extra noi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rge number of independent pixels + short recovery time allow to keep the signal efficiency high even with the 1 p.e. noise rate ~ few tens MH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expected neutron flux around the proposed SiPM position at SuperB is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/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measured by luxel dosimeters and independently calculated from ECL’s APD dam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y groups (ITEP, Calic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2K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tc) measured the radiation damage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65240" y="3648240"/>
            <a:ext cx="7240680" cy="2892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50880" y="3935520"/>
            <a:ext cx="819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87640" y="3911760"/>
            <a:ext cx="1581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 p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18080" y="3886200"/>
            <a:ext cx="2292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ise after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n/c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irrad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203720"/>
            <a:ext cx="241200" cy="29196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4440" y="5275440"/>
            <a:ext cx="10112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y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9400" y="5867280"/>
            <a:ext cx="7203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, n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9840" y="5856120"/>
            <a:ext cx="7203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, n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19840" y="5856120"/>
            <a:ext cx="7203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, n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440" y="3011400"/>
            <a:ext cx="3365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itial 1 p.e. noi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0.5 MHz – MPPC (Hamama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.5 MHz – MRSAPD (CP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7920" y="3011400"/>
            <a:ext cx="432108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 p.e. noise after irradiation with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/cm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 MHz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MPPC (Hamama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2 MHz – MRSAPD (CP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815000" y="4192560"/>
            <a:ext cx="126720" cy="25416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134800" y="4192560"/>
            <a:ext cx="228600" cy="3938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37240" y="4348080"/>
            <a:ext cx="26067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ignal efficiency should be unchanged after 5 years of SuperBelle operation at 2 *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eve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*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240" y="6240600"/>
            <a:ext cx="90327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ever, the neutron spectrum at Belle/sBelle is unknown + conversion dos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eutron flux is not reliable. Direct measurement of the damage in the real conditions is requi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iPM radiation hardness tests in the KEKB tun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02120" y="6332400"/>
            <a:ext cx="4089600" cy="525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MRSAPD and MPPC are ok for SuperB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"/>
          <p:cNvSpPr/>
          <p:nvPr/>
        </p:nvSpPr>
        <p:spPr>
          <a:xfrm>
            <a:off x="3565440" y="1155600"/>
            <a:ext cx="55152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th Russian MRSAPD and Hamamtsu MPPC have been exposed in KEKB tunnel near beam during 50 days (&gt; 1Sv = ⅓ of the 5 year SuperB dos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e photoelectron noise increased – seen in the random trigge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destal and p.e. peaks are smeared – seen in the L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the signal from MIP (~ 25p.e. ) is not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045040" y="3602160"/>
            <a:ext cx="4098960" cy="2671560"/>
            <a:chOff x="5045040" y="3602160"/>
            <a:chExt cx="4098960" cy="267156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5045040" y="3602160"/>
              <a:ext cx="4098960" cy="26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557120" y="3902040"/>
              <a:ext cx="14320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MIP trig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45600" y="4771800"/>
              <a:ext cx="0" cy="11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94080" y="4461120"/>
              <a:ext cx="16315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6 p.e. thresh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1243080"/>
            <a:ext cx="3579840" cy="233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3287880"/>
            <a:ext cx="3610080" cy="2352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1155600" y="1519200"/>
            <a:ext cx="85104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21800" y="1216080"/>
            <a:ext cx="177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irradiai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271520" y="2562120"/>
            <a:ext cx="800280" cy="5968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9200" y="2259000"/>
            <a:ext cx="1614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fter irradiai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08200" y="2870280"/>
            <a:ext cx="17748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random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3367080"/>
            <a:ext cx="14608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LED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2440" y="1647720"/>
            <a:ext cx="84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5360" y="523800"/>
            <a:ext cx="184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8280" y="612720"/>
            <a:ext cx="184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576360"/>
            <a:ext cx="89917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measured neutron dose at the proposed SiPM position now (L=1.4×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~ 1mSv/week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5mSv/week at SuperB (L=2×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3Sv/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681520"/>
            <a:ext cx="4927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imilar MIP efficiency immunit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utron damage is seen with MRSAPD (CPTA), however the pe peaks are poorly resolved (due to longer recovery tim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21120" y="4257720"/>
            <a:ext cx="5843520" cy="2333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06440" y="369720"/>
            <a:ext cx="4572000" cy="2740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allibration and monitoring after irrad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6179760"/>
            <a:ext cx="9144000" cy="67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 our previous statement that amplitude measurement are not necessary for scKLM,  we now believe that this is one of important point to keep stable operation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"/>
          <p:cNvSpPr/>
          <p:nvPr/>
        </p:nvSpPr>
        <p:spPr>
          <a:xfrm>
            <a:off x="4835520" y="635040"/>
            <a:ext cx="411804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litude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p.e. conversion requires callibration and monitoring of 1 p.e gain.   This is useful for HV and threshold ajustment during the whole running peri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l noise + physics backgrounds can be used for on-line SiPM callibration (or during local run). It is sufficient to measure noise/bg rate vs threshold: The distance between plateus corresponds to 1 p.e. (red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62480" y="2871720"/>
            <a:ext cx="1107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96120" y="1092240"/>
            <a:ext cx="57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94600" y="841320"/>
            <a:ext cx="1002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862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ter few years of running due to increased noise the amplitude is smeared by overlapped noise pulses: difficult to see plateus in rate vs threshold distribution (blue line). Loose possibilities of callibr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714920"/>
            <a:ext cx="336564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orrection on overlapping possible using Gary’s read out electronics: 1GHz ADC measurement + FPGA to fit ~10 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35840" y="5016600"/>
            <a:ext cx="0" cy="927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03840" y="4957920"/>
            <a:ext cx="393840" cy="985680"/>
          </a:xfrm>
          <a:custGeom>
            <a:avLst/>
            <a:gdLst/>
            <a:ahLst/>
            <a:rect l="l" t="t" r="r" b="b"/>
            <a:pathLst>
              <a:path w="248" h="621">
                <a:moveTo>
                  <a:pt x="0" y="21"/>
                </a:moveTo>
                <a:cubicBezTo>
                  <a:pt x="20" y="10"/>
                  <a:pt x="41" y="0"/>
                  <a:pt x="56" y="5"/>
                </a:cubicBezTo>
                <a:cubicBezTo>
                  <a:pt x="71" y="10"/>
                  <a:pt x="79" y="21"/>
                  <a:pt x="88" y="53"/>
                </a:cubicBezTo>
                <a:cubicBezTo>
                  <a:pt x="97" y="85"/>
                  <a:pt x="104" y="149"/>
                  <a:pt x="112" y="197"/>
                </a:cubicBezTo>
                <a:cubicBezTo>
                  <a:pt x="120" y="245"/>
                  <a:pt x="128" y="298"/>
                  <a:pt x="136" y="341"/>
                </a:cubicBezTo>
                <a:cubicBezTo>
                  <a:pt x="144" y="384"/>
                  <a:pt x="151" y="421"/>
                  <a:pt x="160" y="453"/>
                </a:cubicBezTo>
                <a:cubicBezTo>
                  <a:pt x="169" y="485"/>
                  <a:pt x="184" y="512"/>
                  <a:pt x="192" y="533"/>
                </a:cubicBezTo>
                <a:cubicBezTo>
                  <a:pt x="200" y="554"/>
                  <a:pt x="199" y="566"/>
                  <a:pt x="208" y="581"/>
                </a:cubicBezTo>
                <a:cubicBezTo>
                  <a:pt x="217" y="596"/>
                  <a:pt x="241" y="614"/>
                  <a:pt x="248" y="621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32320" y="4686480"/>
            <a:ext cx="330120" cy="1511280"/>
          </a:xfrm>
          <a:prstGeom prst="ellipse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11680" y="4602240"/>
            <a:ext cx="2222640" cy="287280"/>
          </a:xfrm>
          <a:custGeom>
            <a:avLst/>
            <a:gdLst/>
            <a:ahLst/>
            <a:rect l="l" t="t" r="r" b="b"/>
            <a:pathLst>
              <a:path w="1400" h="181">
                <a:moveTo>
                  <a:pt x="0" y="165"/>
                </a:moveTo>
                <a:cubicBezTo>
                  <a:pt x="172" y="121"/>
                  <a:pt x="345" y="77"/>
                  <a:pt x="536" y="53"/>
                </a:cubicBezTo>
                <a:cubicBezTo>
                  <a:pt x="727" y="29"/>
                  <a:pt x="1000" y="0"/>
                  <a:pt x="1144" y="21"/>
                </a:cubicBezTo>
                <a:cubicBezTo>
                  <a:pt x="1288" y="42"/>
                  <a:pt x="1344" y="111"/>
                  <a:pt x="1400" y="181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181160"/>
            <a:ext cx="0" cy="77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38280" y="119556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79640" y="138420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2000" y="1095480"/>
            <a:ext cx="5907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 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33400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v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4572000" cy="2838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527040"/>
            <a:ext cx="4572000" cy="28512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0" y="2813040"/>
            <a:ext cx="2273400" cy="1459080"/>
            <a:chOff x="0" y="2813040"/>
            <a:chExt cx="2273400" cy="1459080"/>
          </a:xfrm>
        </p:grpSpPr>
        <p:sp>
          <p:nvSpPr>
            <p:cNvPr id="173" name=""/>
            <p:cNvSpPr/>
            <p:nvPr/>
          </p:nvSpPr>
          <p:spPr>
            <a:xfrm>
              <a:off x="0" y="2836800"/>
              <a:ext cx="2273400" cy="1435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1200" y="3255840"/>
              <a:ext cx="1422360" cy="470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6240" y="3382920"/>
              <a:ext cx="139680" cy="177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01800" y="3433680"/>
              <a:ext cx="88920" cy="88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9800" y="32432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39800" y="3727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70000" y="3255840"/>
              <a:ext cx="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737000" y="3355560"/>
              <a:ext cx="36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200" y="371484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65360" y="371484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5480" y="3776760"/>
              <a:ext cx="36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67840" y="4032360"/>
              <a:ext cx="138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977760" y="3065040"/>
              <a:ext cx="44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22360" y="306540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72680" y="2813040"/>
              <a:ext cx="53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890640" y="5711760"/>
            <a:ext cx="43052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ps from two producers are tested and compared in I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61880"/>
            <a:ext cx="2155680" cy="94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ermilab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used in T2K near det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870600" y="2813040"/>
            <a:ext cx="2273400" cy="1449360"/>
            <a:chOff x="6870600" y="2813040"/>
            <a:chExt cx="2273400" cy="1449360"/>
          </a:xfrm>
        </p:grpSpPr>
        <p:sp>
          <p:nvSpPr>
            <p:cNvPr id="192" name=""/>
            <p:cNvSpPr/>
            <p:nvPr/>
          </p:nvSpPr>
          <p:spPr>
            <a:xfrm>
              <a:off x="6870600" y="2827440"/>
              <a:ext cx="2273400" cy="1434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99200" y="3259080"/>
              <a:ext cx="1422360" cy="469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97800" y="3246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97800" y="3730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928000" y="3259080"/>
              <a:ext cx="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8595000" y="3358800"/>
              <a:ext cx="36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99200" y="371772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23360" y="371772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3480" y="3779640"/>
              <a:ext cx="36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126200" y="4035240"/>
              <a:ext cx="138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44080" y="308124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56240" y="2816280"/>
              <a:ext cx="53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83560" y="3232080"/>
              <a:ext cx="127080" cy="329760"/>
              <a:chOff x="7783560" y="3232080"/>
              <a:chExt cx="127080" cy="329760"/>
            </a:xfrm>
          </p:grpSpPr>
          <p:sp>
            <p:nvSpPr>
              <p:cNvPr id="205" name=""/>
              <p:cNvSpPr/>
              <p:nvPr/>
            </p:nvSpPr>
            <p:spPr>
              <a:xfrm>
                <a:off x="7791480" y="3396960"/>
                <a:ext cx="118800" cy="1648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83560" y="3232080"/>
                <a:ext cx="127080" cy="25128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91480" y="3452040"/>
                <a:ext cx="110880" cy="550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7809120" y="3435480"/>
              <a:ext cx="88560" cy="88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899480" y="3080880"/>
              <a:ext cx="44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43880" y="3219480"/>
              <a:ext cx="40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7211520" y="3066480"/>
              <a:ext cx="58428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97760" y="2813040"/>
              <a:ext cx="77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645280" y="3340080"/>
            <a:ext cx="3852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ame outer strip geomet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different geometry of gro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0" y="4259160"/>
            <a:ext cx="9144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 are now not able to provide comparison of the scintillator plastic quality for Kharkov – Fermilab strips. This should be done by TDR (September 09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in any case,  both are ok for SuperB:  sufficient light collection from the 3-meter far 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320" y="5592600"/>
            <a:ext cx="45496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entral groove (Fermilab) is slightly more preferable (~10% better light collection); glueing i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5556240"/>
            <a:ext cx="45496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harkov can not produce central groove. However, if the fiber glueing is done in ITEP, transportation/tax is too costly from Fermil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38320" y="469800"/>
            <a:ext cx="7105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31400" y="5124600"/>
            <a:ext cx="34815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ST of the groove geome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23080" y="488880"/>
            <a:ext cx="23209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Kharkov (Ukra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used in OP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14320" y="-18360"/>
            <a:ext cx="8329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mmary = to do list for TD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00" y="549360"/>
            <a:ext cx="8673840" cy="604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ison of  design with MRSAPD (CPTA) &amp; MPPC (Hamamts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oth are ok, however application of either requires to solve some technical probl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laborate details of using for both: mounting, HV supply, control and callibration, maintanance,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 and find optimal solu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ison of design with Kharkov and Fermilab scintillator 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oth are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ed to compare scintillator quality first end elaborate the manufacuring (fiber glueing)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 resulting quality and cost to find optimal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ull Geant MC study (standalone MC for KLM encap is done already) to confirm/study physics performan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lectronic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Gary’s electronics seems to be optimal for our purposes. The features that seemed to be excessive are very welcomed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ed to check that it is possible to work without pre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justable HV supply still need to be elabo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khlov</dc:creator>
  <dc:description/>
  <dc:language>en-US</dc:language>
  <cp:lastModifiedBy>pasha</cp:lastModifiedBy>
  <dcterms:modified xsi:type="dcterms:W3CDTF">2009-03-18T14:04:30Z</dcterms:modified>
  <cp:revision>187</cp:revision>
  <dc:subject/>
  <dc:title>Status of KLM scintillator test module</dc:title>
</cp:coreProperties>
</file>